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246-FB08-41E8-A849-A88917B0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3B6-373C-46BC-9443-09AB4069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7A9-6DA3-4E3A-B746-40DD5190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20F-9608-46FA-8F78-CDFCA9A8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D66-B1FC-4C37-A680-CAFA13FE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F1C-24A3-4B0C-8102-6AB3CF17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F84-62DC-4E3B-93F0-D23920FF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23C-193D-48F2-97C0-C117F9F2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D60-4AE3-4B36-AB7F-879B3122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AD4-4280-4B1F-8B97-6FCECC6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219-673F-434B-8D68-90F7F996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180-3E9C-4FC8-8B19-D8A2EE7B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4A7F-E726-4F66-B707-4985B869106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3 Buď, Pane, so mn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, Pane, so mn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sa chýli n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mnota hust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ď mi pomoc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zkosť ma tiesn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ôľ mi zviera hruď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žca môj ver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 mne stále buď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y si Skal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ho spas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 útočište v chvíľach súženia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radcom v žial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aždom tráp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techa moja z teba pra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ty si so mn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ič sa neboj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strachu pôjdem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sĺz údolím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osteň smrt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ob kde kraľ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ňa, Pane, vernou lásk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uj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ýchlo sa konč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ho žitia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áva i radosť miznú ako sen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 sa mení, všetko zanik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zmien si len ty, Láska odveká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9:32:49Z</dcterms:modified>
  <cp:revision>57</cp:revision>
  <dc:subject/>
  <dc:title>Je veľký náš Pán, on slávy je Kráľ Nech do všetkých strán  spev vrúcnych znie chvál.</dc:title>
</cp:coreProperties>
</file>